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0F9-A4DF-48F9-9DD7-D25A741D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6D9-423E-4D1D-B9C4-E005CFD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E40-EAC4-4E7F-8407-36CBEEDF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B07-2F13-41A3-BF46-5EB771BA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4A0C-E454-4303-8F4E-38B89333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0A8D-9814-4229-B76B-1F4CC7C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D54B-2573-4E23-8CB0-B636BA4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C996-804A-4E18-89EB-7C8DEEA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8D23-1828-4A2D-A968-D016E334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C5B-3695-4B10-8D7F-6277344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C177-33E9-4FDD-98EE-56138EB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A07-EB43-43F2-862C-85032C58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2AD-EC6D-4DC5-9B54-9596026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B7CC-CD7E-42F0-B77A-5243A52A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26D-93D4-4259-8D2B-4694D9CC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9462-AB8D-4F7B-8954-4C2456CE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84DE-2A4B-4584-8F40-AB1A27BD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BCE-B361-4777-A553-D40CCBBC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A05-BAA1-4BEA-8C6F-8A3D7C9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0CD-54D4-4599-B0ED-BD7961C7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CA1-A81D-46D7-9BCC-9241A8B1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E70-FB1C-4611-BCC0-1E07F6D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78B-BF08-4C6A-A3F1-7A0FB03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479-CF8B-4D43-9ADF-76C21E0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AB16-5E39-46D5-82DE-D22D555386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B5F-AE39-41FF-A0EC-2C523330DA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Judges 6:1 – 8: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3;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8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3429000"/>
            <a:ext cx="8076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Gather Against Isra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33-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ites, and others east of Jordan, came across the Jordan to the valley of Jezreel, v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pirit of the Lord came upon Gideon and he blew the “call” trumpet, v3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, Manasseh and other northern tribes met Gideon, v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114800" cy="266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380880" y="2971800"/>
            <a:ext cx="31528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boa View of Jezree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673880" cy="3490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38098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arod Valley of Jezre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28600" y="3395520"/>
            <a:ext cx="3638520" cy="3462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48320" y="4194000"/>
            <a:ext cx="3657600" cy="2664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90720"/>
            <a:ext cx="1676520" cy="5486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162920" y="1676520"/>
            <a:ext cx="1371600" cy="4114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 Gives Gideon Sig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confirmation 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would save Israel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36-4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spoke to Go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put a fleece of wool on the flo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rst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eece but not on the fl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sig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If dew is on the floor but not on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270320" cy="2822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:1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ted with 32,000 men in his a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aid he had too many men, v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0 Men And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Prepares His Arm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lessons do we learn from these numbers and these tes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Romans 8:3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parations For The Atta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7:9-18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to go to the Midianite camp and listen, v9-1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built up his confidence, v13-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n, his strategy, v16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told his army: “Do as I do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2400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ttle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7:19-2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 army followed his instructions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acked after the night watch chan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w the trump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 the pitchers revealing the lam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ied, “The sword of the Lord and of Gideon, v19-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onfusion, the Midianites slaughtered each other.  The rest ran, but were pursued.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22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804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ictory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:24 - 8: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sage sent to Ephraimites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op the Midianites passage over the Jordan Ri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tured 2 leaders of the Midianites and cut off their heads, 24-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t, the Ephraimites complain, 8: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: Isn’t the gleaning of Ephraim better than the harvest of Abiezer?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lain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8:2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Destroys The Altar of Ba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dianites Gather Against Isra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Gives Gideon Sig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Prepares His Ar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attle (7:19-2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Victory (7:24 - 8: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oppressed by the Midianites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6:1-6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rael was evil in the sight of the Lord, v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 years of oppression, v1-3 &amp; 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ved in dens and caves,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y poor people, v4 &amp; 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member the cycle - Judges 2:14-1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ianites – Who Were The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ian, Son of Abraham and Ketur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fled to the land of Mid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es married Zipporah, a Midiani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ed Moab in trying to curse Isra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l influence on Israel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srael slaughtered the Midianites earl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d located in the western part of the Arabian desert; south of 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Land of Mid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95480" y="5715000"/>
            <a:ext cx="91440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715000"/>
            <a:ext cx="533520" cy="8380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Ophr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600200"/>
            <a:ext cx="762120" cy="129528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13716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b76"/>
                </a:solidFill>
                <a:uFillTx/>
                <a:latin typeface="Verdana"/>
              </a:rPr>
              <a:t>Valley of Jezr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00040" y="1905120"/>
            <a:ext cx="1600200" cy="914400"/>
          </a:xfrm>
          <a:prstGeom prst="line">
            <a:avLst/>
          </a:prstGeom>
          <a:ln w="57240">
            <a:solidFill>
              <a:srgbClr val="003b7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and the Midiani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7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hovah hears Israel’s cry, v7-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nt a proph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inds them of former deliver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God called Gideon to save Israel, v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2952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-15840"/>
            <a:ext cx="83059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– Who Was 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fth recorded judge 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ter called “Jerubbaal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ngest son of Joash of the Abiezrites (tribe of Manasse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ved in Ophrah, probably in the territory of Issachar, west of the Jordan Ri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mighty man of valor (brave); humble; obedient; cauti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deon Call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:11-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ngel of the Lord appeared to him, v11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ould not understand how a poor man like him could save Israel – humble, v15-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ed for a sign – being cautious, v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deon given a sign, v18-2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t altar as a memorial, v2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Destroys The Altar of Ba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rd sai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troy your father’s altar of Baal and to cut down the pole of Ashtaro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 an altar to God and offer your  father’s bullock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:2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obeys the Lord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ty found Gideon responsible for damage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28-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ash challenged Baal to punish Gide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:31-3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deon called “Jerubbaal” – “Baal fighter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43:27Z</dcterms:created>
  <dc:creator>Frank D Vines</dc:creator>
  <dc:description/>
  <dc:language>en-US</dc:language>
  <cp:lastModifiedBy>Frank D Vines</cp:lastModifiedBy>
  <dcterms:modified xsi:type="dcterms:W3CDTF">2005-02-15T14:11:13Z</dcterms:modified>
  <cp:revision>27</cp:revision>
  <dc:subject/>
  <dc:title>Slide 1</dc:title>
</cp:coreProperties>
</file>